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518-2E10-4250-A958-5696718E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4E4-3550-49ED-9070-F7EE56D4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864-6492-4C3A-9C1E-F87B35CE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492-1388-44AC-953B-4701A1B0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EA58-0318-4DE9-A767-4241C09B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8A11-B421-4F18-9DC1-915F8972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A891-94F0-4FB2-8F05-62272CE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9307-D364-40FF-AC44-0138D4E1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EA21-0A00-4A0C-8554-4D2708AA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BB02-8F33-498C-AAC6-5BB4C326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7E34-137F-49CB-9CDF-05552742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8B1-5131-457B-9C55-13833F14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5DA5-5A5A-42E2-9831-C9552CF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2156-2779-4BE7-905E-E0965D0B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623-7091-4274-8B81-14962EF8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7575-F4E6-4767-B643-6B3701EF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243C-A4CE-445C-A881-05B0C95E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5C0-1570-4948-A39F-8E97D96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6DC-EFA1-484F-A800-53B86EFE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24E-1198-48F9-8089-9CBA07EE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535-D8D1-42B0-9793-ECF66BDA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9EB-C041-424E-AFFF-8F345F3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01B-57E6-47BD-ADB3-37477AD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530-8704-45E0-9789-182101EE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2D62-1699-4BC6-A9EC-A6F0B202A492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9DA3-428A-4110-8FD3-DF030318F9E6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rog.simplenet.com/froggy/" TargetMode="External"/><Relationship Id="rId2" Type="http://schemas.openxmlformats.org/officeDocument/2006/relationships/hyperlink" Target="http://frog.simplenet.com/froggy/" TargetMode="External"/><Relationship Id="rId3" Type="http://schemas.openxmlformats.org/officeDocument/2006/relationships/hyperlink" Target="http://www.do.esd.k12.ca.us/Cadwallader/Room_9webpage97/FrogandToadFriendlyLetterWrit" TargetMode="External"/><Relationship Id="rId4" Type="http://schemas.openxmlformats.org/officeDocument/2006/relationships/hyperlink" Target="http://www.do.esd.k12.ca.us/Cadwallader/Room_9webpage97/FrogandToadFriendlyLetterWrit" TargetMode="External"/><Relationship Id="rId5" Type="http://schemas.openxmlformats.org/officeDocument/2006/relationships/hyperlink" Target="http://ericir.syr.edu/Virtual/Lessons/Interdisciplinary/INT0024.html" TargetMode="External"/><Relationship Id="rId6" Type="http://schemas.openxmlformats.org/officeDocument/2006/relationships/hyperlink" Target="http://www.globalclassroom.org/letter.html" TargetMode="External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E.WAV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Frog and Toad Together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by Arnold Lobel</a:t>
            </a:r>
            <a:endParaRPr b="0" i="1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Comic Sans MS"/>
              </a:rPr>
              <a:t>Come see Frog and Toad in a story about two friends!</a:t>
            </a:r>
            <a:endParaRPr b="0" lang="en-US" sz="44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1f7e9"/>
                </a:solidFill>
                <a:latin typeface="Times New Roman"/>
              </a:rPr>
              <a:t>Web Sites</a:t>
            </a:r>
            <a:endParaRPr b="0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 rot="20035800">
            <a:off x="208080" y="2573640"/>
            <a:ext cx="34700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nold Lobel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70" name="">
            <a:hlinkClick r:id="rId1"/>
          </p:cNvPr>
          <p:cNvSpPr/>
          <p:nvPr/>
        </p:nvSpPr>
        <p:spPr>
          <a:xfrm rot="1377000">
            <a:off x="5805360" y="2528280"/>
            <a:ext cx="316764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8000"/>
                </a:solidFill>
                <a:uFillTx/>
                <a:latin typeface="Comic Sans MS"/>
                <a:hlinkClick r:id="rId2"/>
              </a:rPr>
              <a:t>Froggy Page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71" name="">
            <a:hlinkClick r:id="rId3"/>
          </p:cNvPr>
          <p:cNvSpPr/>
          <p:nvPr/>
        </p:nvSpPr>
        <p:spPr>
          <a:xfrm>
            <a:off x="1203120" y="4545720"/>
            <a:ext cx="64429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8000"/>
                </a:solidFill>
                <a:uFillTx/>
                <a:latin typeface="Tahoma"/>
                <a:hlinkClick r:id="rId4"/>
              </a:rPr>
              <a:t>Letter Writing Lesson Plan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3139200" y="2894760"/>
            <a:ext cx="283536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8000"/>
                </a:solidFill>
                <a:uFillTx/>
                <a:latin typeface="Tahoma"/>
                <a:hlinkClick r:id="rId5"/>
              </a:rPr>
              <a:t>A Mini-Unit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1730160" y="3737880"/>
            <a:ext cx="552708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8000"/>
                </a:solidFill>
                <a:uFillTx/>
                <a:latin typeface="Tahoma"/>
                <a:hlinkClick r:id="rId6"/>
              </a:rPr>
              <a:t>“The Letter” Questions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332440" y="5501160"/>
            <a:ext cx="42285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ahoma"/>
              </a:rPr>
              <a:t>Newbery Awards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1f7e9"/>
                </a:solidFill>
                <a:latin typeface="Times New Roman"/>
              </a:rPr>
              <a:t>Table of Contents</a:t>
            </a:r>
            <a:endParaRPr b="0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A List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  <p:pic>
        <p:nvPicPr>
          <p:cNvPr id="99" name="TogetherBC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538360" cy="3886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5506920"/>
            <a:ext cx="38098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The Dream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114800"/>
            <a:ext cx="3809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001"/>
              </a:spcBef>
              <a:buClr>
                <a:srgbClr val="8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Dragons And Giants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352680"/>
            <a:ext cx="38098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Cookies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590920"/>
            <a:ext cx="3809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The Garden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1f7e9"/>
                </a:solidFill>
                <a:latin typeface="Times New Roman"/>
              </a:rPr>
              <a:t>A List</a:t>
            </a:r>
            <a:endParaRPr b="0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0574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Comic Sans MS"/>
              </a:rPr>
              <a:t>A List of Things to Do Today</a:t>
            </a:r>
            <a:endParaRPr b="0" lang="en-US" sz="4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253040"/>
            <a:ext cx="3124080" cy="82512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Comic Sans MS"/>
              </a:rPr>
              <a:t>Wake up.</a:t>
            </a:r>
            <a:endParaRPr b="0" lang="en-US" sz="4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724280"/>
            <a:ext cx="28162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pic>
        <p:nvPicPr>
          <p:cNvPr id="108" name="frogbig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048120" cy="2168640"/>
          </a:xfrm>
          <a:prstGeom prst="rect">
            <a:avLst/>
          </a:prstGeom>
          <a:ln w="0">
            <a:noFill/>
          </a:ln>
        </p:spPr>
      </p:pic>
      <p:pic>
        <p:nvPicPr>
          <p:cNvPr id="109" name="alarmclock" descr=""/>
          <p:cNvPicPr/>
          <p:nvPr/>
        </p:nvPicPr>
        <p:blipFill>
          <a:blip r:embed="rId2"/>
          <a:stretch/>
        </p:blipFill>
        <p:spPr>
          <a:xfrm>
            <a:off x="-34920" y="3124080"/>
            <a:ext cx="277812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1f7e9"/>
                </a:solidFill>
                <a:latin typeface="Times New Roman"/>
              </a:rPr>
              <a:t>The Garden</a:t>
            </a:r>
            <a:endParaRPr b="0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518148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Comic Sans MS"/>
              </a:rPr>
              <a:t>GROW GARDEN GROW</a:t>
            </a:r>
            <a:endParaRPr b="0" lang="en-US" sz="4800" spc="-1" strike="noStrike">
              <a:solidFill>
                <a:srgbClr val="003300"/>
              </a:solidFill>
              <a:latin typeface="Comic Sans MS"/>
            </a:endParaRPr>
          </a:p>
        </p:txBody>
      </p:sp>
      <p:pic>
        <p:nvPicPr>
          <p:cNvPr id="112" name="toad%20walking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514600" cy="2394000"/>
          </a:xfrm>
          <a:prstGeom prst="rect">
            <a:avLst/>
          </a:prstGeom>
          <a:ln w="0">
            <a:noFill/>
          </a:ln>
        </p:spPr>
      </p:pic>
      <p:pic>
        <p:nvPicPr>
          <p:cNvPr id="113" name="daisies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387360" cy="419040"/>
          </a:xfrm>
          <a:prstGeom prst="rect">
            <a:avLst/>
          </a:prstGeom>
          <a:ln w="0">
            <a:noFill/>
          </a:ln>
        </p:spPr>
      </p:pic>
      <p:pic>
        <p:nvPicPr>
          <p:cNvPr id="114" name="daisies" descr=""/>
          <p:cNvPicPr/>
          <p:nvPr/>
        </p:nvPicPr>
        <p:blipFill>
          <a:blip r:embed="rId3"/>
          <a:stretch/>
        </p:blipFill>
        <p:spPr>
          <a:xfrm>
            <a:off x="3809880" y="3200400"/>
            <a:ext cx="1374840" cy="1486080"/>
          </a:xfrm>
          <a:prstGeom prst="rect">
            <a:avLst/>
          </a:prstGeom>
          <a:ln w="0">
            <a:noFill/>
          </a:ln>
        </p:spPr>
      </p:pic>
      <p:pic>
        <p:nvPicPr>
          <p:cNvPr id="115" name="daisies" descr=""/>
          <p:cNvPicPr/>
          <p:nvPr/>
        </p:nvPicPr>
        <p:blipFill>
          <a:blip r:embed="rId4"/>
          <a:stretch/>
        </p:blipFill>
        <p:spPr>
          <a:xfrm>
            <a:off x="5727600" y="1600200"/>
            <a:ext cx="3416400" cy="3695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518148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Comic Sans MS"/>
              </a:rPr>
              <a:t>GROW GARDEN GROW</a:t>
            </a:r>
            <a:endParaRPr b="0" lang="en-US" sz="4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18148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Comic Sans MS"/>
              </a:rPr>
              <a:t>GROW GARDEN GROW</a:t>
            </a:r>
            <a:endParaRPr b="0" lang="en-US" sz="4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73120" y="5256720"/>
            <a:ext cx="814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ill Toad’s Garden Ever Grow?</a:t>
            </a:r>
            <a:endParaRPr b="0" lang="en-US" sz="44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1f7e9"/>
                </a:solidFill>
                <a:latin typeface="Times New Roman"/>
              </a:rPr>
              <a:t>Cookies</a:t>
            </a:r>
            <a:endParaRPr b="0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0720" y="1523880"/>
            <a:ext cx="7391160" cy="1905120"/>
            <a:chOff x="990720" y="1523880"/>
            <a:chExt cx="7391160" cy="1905120"/>
          </a:xfrm>
        </p:grpSpPr>
        <p:sp>
          <p:nvSpPr>
            <p:cNvPr id="121" name=""/>
            <p:cNvSpPr/>
            <p:nvPr/>
          </p:nvSpPr>
          <p:spPr>
            <a:xfrm>
              <a:off x="990720" y="1523880"/>
              <a:ext cx="7391160" cy="1905120"/>
            </a:xfrm>
            <a:prstGeom prst="irregularSeal2">
              <a:avLst/>
            </a:prstGeom>
            <a:solidFill>
              <a:srgbClr val="8bae6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0920" y="2193840"/>
              <a:ext cx="342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1f7e9"/>
                  </a:solidFill>
                  <a:latin typeface="Comic Sans MS"/>
                </a:rPr>
                <a:t>Will Power</a:t>
              </a:r>
              <a:endParaRPr b="0" lang="en-US" sz="40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</p:grpSp>
      <p:pic>
        <p:nvPicPr>
          <p:cNvPr id="123" name="toad%20walking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209680" cy="2103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3505320"/>
            <a:ext cx="2133720" cy="1447560"/>
            <a:chOff x="914400" y="3505320"/>
            <a:chExt cx="2133720" cy="1447560"/>
          </a:xfrm>
        </p:grpSpPr>
        <p:sp>
          <p:nvSpPr>
            <p:cNvPr id="126" name=""/>
            <p:cNvSpPr/>
            <p:nvPr/>
          </p:nvSpPr>
          <p:spPr>
            <a:xfrm>
              <a:off x="914400" y="3505320"/>
              <a:ext cx="2133720" cy="1447560"/>
            </a:xfrm>
            <a:prstGeom prst="cloudCallout">
              <a:avLst>
                <a:gd name="adj1" fmla="val 57888"/>
                <a:gd name="adj2" fmla="val 39472"/>
              </a:avLst>
            </a:prstGeom>
            <a:solidFill>
              <a:srgbClr val="f1f7e9"/>
            </a:solidFill>
            <a:ln w="9360">
              <a:solidFill>
                <a:srgbClr val="8bae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523880" y="3962520"/>
              <a:ext cx="838080" cy="457200"/>
              <a:chOff x="1523880" y="3962520"/>
              <a:chExt cx="838080" cy="457200"/>
            </a:xfrm>
          </p:grpSpPr>
          <p:sp>
            <p:nvSpPr>
              <p:cNvPr id="128" name=""/>
              <p:cNvSpPr/>
              <p:nvPr/>
            </p:nvSpPr>
            <p:spPr>
              <a:xfrm>
                <a:off x="1523880" y="396252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52480" y="411480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752480" y="411480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81080" y="40384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28800" y="426708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81080" y="419112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3360" y="419112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5181480" y="2971800"/>
            <a:ext cx="3429000" cy="1828800"/>
            <a:chOff x="5181480" y="2971800"/>
            <a:chExt cx="3429000" cy="1828800"/>
          </a:xfrm>
        </p:grpSpPr>
        <p:sp>
          <p:nvSpPr>
            <p:cNvPr id="136" name=""/>
            <p:cNvSpPr/>
            <p:nvPr/>
          </p:nvSpPr>
          <p:spPr>
            <a:xfrm>
              <a:off x="5181480" y="2971800"/>
              <a:ext cx="3429000" cy="1828800"/>
            </a:xfrm>
            <a:prstGeom prst="cloudCallout">
              <a:avLst>
                <a:gd name="adj1" fmla="val -50555"/>
                <a:gd name="adj2" fmla="val 44185"/>
              </a:avLst>
            </a:prstGeom>
            <a:solidFill>
              <a:srgbClr val="f1f7e9"/>
            </a:solidFill>
            <a:ln w="9360">
              <a:solidFill>
                <a:srgbClr val="8bae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omic Sans MS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629400" y="3352680"/>
              <a:ext cx="838080" cy="457200"/>
              <a:chOff x="6629400" y="3352680"/>
              <a:chExt cx="838080" cy="45720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335268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58000" y="350496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58000" y="35049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86600" y="34286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365724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86600" y="35812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38880" y="35812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248520" y="3581280"/>
              <a:ext cx="838080" cy="457200"/>
              <a:chOff x="6248520" y="3581280"/>
              <a:chExt cx="838080" cy="457200"/>
            </a:xfrm>
          </p:grpSpPr>
          <p:sp>
            <p:nvSpPr>
              <p:cNvPr id="146" name=""/>
              <p:cNvSpPr/>
              <p:nvPr/>
            </p:nvSpPr>
            <p:spPr>
              <a:xfrm>
                <a:off x="6248520" y="358128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77120" y="373356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477120" y="37335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5720" y="36572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53440" y="388584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05720" y="38098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8098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715000" y="3733560"/>
              <a:ext cx="838080" cy="457200"/>
              <a:chOff x="5715000" y="3733560"/>
              <a:chExt cx="838080" cy="457200"/>
            </a:xfrm>
          </p:grpSpPr>
          <p:sp>
            <p:nvSpPr>
              <p:cNvPr id="154" name=""/>
              <p:cNvSpPr/>
              <p:nvPr/>
            </p:nvSpPr>
            <p:spPr>
              <a:xfrm>
                <a:off x="5715000" y="373356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43600" y="388584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43600" y="38858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72200" y="380952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19920" y="403812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72200" y="39621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24480" y="39621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715000" y="3581280"/>
              <a:ext cx="838080" cy="457200"/>
              <a:chOff x="5715000" y="3581280"/>
              <a:chExt cx="838080" cy="457200"/>
            </a:xfrm>
          </p:grpSpPr>
          <p:sp>
            <p:nvSpPr>
              <p:cNvPr id="162" name=""/>
              <p:cNvSpPr/>
              <p:nvPr/>
            </p:nvSpPr>
            <p:spPr>
              <a:xfrm>
                <a:off x="5715000" y="358128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43600" y="373356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43600" y="37335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72200" y="36572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019920" y="388584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72200" y="38098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24480" y="38098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248520" y="3352680"/>
              <a:ext cx="838080" cy="457200"/>
              <a:chOff x="6248520" y="3352680"/>
              <a:chExt cx="838080" cy="457200"/>
            </a:xfrm>
          </p:grpSpPr>
          <p:sp>
            <p:nvSpPr>
              <p:cNvPr id="170" name=""/>
              <p:cNvSpPr/>
              <p:nvPr/>
            </p:nvSpPr>
            <p:spPr>
              <a:xfrm>
                <a:off x="6248520" y="335268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7120" y="350496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7120" y="35049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05720" y="34286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53440" y="365724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05720" y="35812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858000" y="35812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705720" y="3886200"/>
              <a:ext cx="838080" cy="457200"/>
              <a:chOff x="6705720" y="3886200"/>
              <a:chExt cx="838080" cy="457200"/>
            </a:xfrm>
          </p:grpSpPr>
          <p:sp>
            <p:nvSpPr>
              <p:cNvPr id="178" name=""/>
              <p:cNvSpPr/>
              <p:nvPr/>
            </p:nvSpPr>
            <p:spPr>
              <a:xfrm>
                <a:off x="6705720" y="388620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34320" y="403848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34320" y="40384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62920" y="39621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010640" y="419076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411480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15200" y="411480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858000" y="3581280"/>
              <a:ext cx="838080" cy="457200"/>
              <a:chOff x="6858000" y="3581280"/>
              <a:chExt cx="838080" cy="457200"/>
            </a:xfrm>
          </p:grpSpPr>
          <p:sp>
            <p:nvSpPr>
              <p:cNvPr id="186" name=""/>
              <p:cNvSpPr/>
              <p:nvPr/>
            </p:nvSpPr>
            <p:spPr>
              <a:xfrm>
                <a:off x="6858000" y="358128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86600" y="373356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86600" y="37335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15200" y="36572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162920" y="388584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15200" y="38098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467480" y="38098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172200" y="3809880"/>
              <a:ext cx="838080" cy="457200"/>
              <a:chOff x="6172200" y="3809880"/>
              <a:chExt cx="838080" cy="457200"/>
            </a:xfrm>
          </p:grpSpPr>
          <p:sp>
            <p:nvSpPr>
              <p:cNvPr id="194" name=""/>
              <p:cNvSpPr/>
              <p:nvPr/>
            </p:nvSpPr>
            <p:spPr>
              <a:xfrm>
                <a:off x="6172200" y="380988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00800" y="396216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00800" y="39621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9400" y="38858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77120" y="411444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9400" y="40384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81680" y="40384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791320" y="3962160"/>
              <a:ext cx="838080" cy="457200"/>
              <a:chOff x="5791320" y="3962160"/>
              <a:chExt cx="838080" cy="457200"/>
            </a:xfrm>
          </p:grpSpPr>
          <p:sp>
            <p:nvSpPr>
              <p:cNvPr id="202" name=""/>
              <p:cNvSpPr/>
              <p:nvPr/>
            </p:nvSpPr>
            <p:spPr>
              <a:xfrm>
                <a:off x="5791320" y="396216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19920" y="411444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19920" y="41144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48520" y="403812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96240" y="426672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48520" y="41907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00800" y="41907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715000" y="3429000"/>
              <a:ext cx="838080" cy="457200"/>
              <a:chOff x="5715000" y="3429000"/>
              <a:chExt cx="83808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5715000" y="342900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43600" y="358128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43600" y="35812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72200" y="35049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19920" y="373356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72200" y="365760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24480" y="365760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934320" y="3504960"/>
              <a:ext cx="838080" cy="457200"/>
              <a:chOff x="6934320" y="3504960"/>
              <a:chExt cx="83808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34320" y="350496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62920" y="365724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62920" y="36572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391520" y="358092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239240" y="380952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91520" y="37335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43800" y="37335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086600" y="3733560"/>
              <a:ext cx="838080" cy="457200"/>
              <a:chOff x="7086600" y="3733560"/>
              <a:chExt cx="838080" cy="457200"/>
            </a:xfrm>
          </p:grpSpPr>
          <p:sp>
            <p:nvSpPr>
              <p:cNvPr id="226" name=""/>
              <p:cNvSpPr/>
              <p:nvPr/>
            </p:nvSpPr>
            <p:spPr>
              <a:xfrm>
                <a:off x="7086600" y="373356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315200" y="388584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315200" y="38858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543800" y="380952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391520" y="403812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43800" y="39621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96080" y="39621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553080" y="4038480"/>
              <a:ext cx="838080" cy="457200"/>
              <a:chOff x="6553080" y="4038480"/>
              <a:chExt cx="838080" cy="457200"/>
            </a:xfrm>
          </p:grpSpPr>
          <p:sp>
            <p:nvSpPr>
              <p:cNvPr id="234" name=""/>
              <p:cNvSpPr/>
              <p:nvPr/>
            </p:nvSpPr>
            <p:spPr>
              <a:xfrm>
                <a:off x="6553080" y="4038480"/>
                <a:ext cx="838080" cy="45720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81680" y="4190760"/>
                <a:ext cx="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81680" y="419076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10280" y="411444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58000" y="4343040"/>
                <a:ext cx="7596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10280" y="42670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162560" y="4267080"/>
                <a:ext cx="76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5257800" y="5180760"/>
            <a:ext cx="350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Which will Toad choose?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1f7e9"/>
                </a:solidFill>
                <a:latin typeface="Times New Roman"/>
              </a:rPr>
              <a:t>Dragons and Giants</a:t>
            </a:r>
            <a:endParaRPr b="0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487692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Comic Sans MS"/>
              </a:rPr>
              <a:t>We are brave.  </a:t>
            </a:r>
            <a:endParaRPr b="0" lang="en-US" sz="4800" spc="-1" strike="noStrike">
              <a:solidFill>
                <a:srgbClr val="003300"/>
              </a:solidFill>
              <a:latin typeface="Comic Sans MS"/>
            </a:endParaRPr>
          </a:p>
        </p:txBody>
      </p:sp>
      <p:pic>
        <p:nvPicPr>
          <p:cNvPr id="244" name="frog2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1795680" cy="2981160"/>
          </a:xfrm>
          <a:prstGeom prst="rect">
            <a:avLst/>
          </a:prstGeom>
          <a:ln w="0">
            <a:noFill/>
          </a:ln>
        </p:spPr>
      </p:pic>
      <p:pic>
        <p:nvPicPr>
          <p:cNvPr id="245" name="frog2" descr=""/>
          <p:cNvPicPr/>
          <p:nvPr/>
        </p:nvPicPr>
        <p:blipFill>
          <a:blip r:embed="rId2"/>
          <a:stretch/>
        </p:blipFill>
        <p:spPr>
          <a:xfrm>
            <a:off x="6553080" y="1743120"/>
            <a:ext cx="1795680" cy="2981160"/>
          </a:xfrm>
          <a:prstGeom prst="rect">
            <a:avLst/>
          </a:prstGeom>
          <a:ln w="0">
            <a:noFill/>
          </a:ln>
        </p:spPr>
      </p:pic>
      <p:pic>
        <p:nvPicPr>
          <p:cNvPr id="246" name="dinosaur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733560" cy="4495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247280" y="5500080"/>
            <a:ext cx="33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Comic Sans MS"/>
              </a:rPr>
              <a:t>Aren’t we?</a:t>
            </a:r>
            <a:endParaRPr b="0" lang="en-US" sz="48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1f7e9"/>
                </a:solidFill>
                <a:latin typeface="Times New Roman"/>
              </a:rPr>
              <a:t>The Dream</a:t>
            </a:r>
            <a:endParaRPr b="0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0880" y="1523880"/>
            <a:ext cx="5208840" cy="3353040"/>
            <a:chOff x="380880" y="1523880"/>
            <a:chExt cx="5208840" cy="3353040"/>
          </a:xfrm>
        </p:grpSpPr>
        <p:sp>
          <p:nvSpPr>
            <p:cNvPr id="250" name=""/>
            <p:cNvSpPr txBox="1"/>
            <p:nvPr/>
          </p:nvSpPr>
          <p:spPr>
            <a:xfrm>
              <a:off x="380880" y="1523880"/>
              <a:ext cx="3227400" cy="3124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6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1f7e9"/>
                    </a:solidFill>
                    <a:miter/>
                  </a:ln>
                  <a:gradFill rotWithShape="0">
                    <a:gsLst>
                      <a:gs pos="0">
                        <a:srgbClr val="366b1b"/>
                      </a:gs>
                      <a:gs pos="100000">
                        <a:srgbClr val="8bae6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PRESENTING</a:t>
              </a:r>
              <a:endParaRPr b="0" lang="en-US" sz="2400" spc="1" strike="noStrike">
                <a:ln w="9360">
                  <a:solidFill>
                    <a:srgbClr val="f1f7e9"/>
                  </a:solidFill>
                  <a:miter/>
                </a:ln>
                <a:gradFill rotWithShape="0">
                  <a:gsLst>
                    <a:gs pos="0">
                      <a:srgbClr val="366b1b"/>
                    </a:gs>
                    <a:gs pos="100000">
                      <a:srgbClr val="8bae6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362320" y="1752480"/>
              <a:ext cx="3227400" cy="3124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6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1f7e9"/>
                    </a:solidFill>
                    <a:miter/>
                  </a:ln>
                  <a:gradFill rotWithShape="0">
                    <a:gsLst>
                      <a:gs pos="0">
                        <a:srgbClr val="366b1b"/>
                      </a:gs>
                      <a:gs pos="100000">
                        <a:srgbClr val="8bae6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PRESENTING</a:t>
              </a:r>
              <a:endParaRPr b="0" lang="en-US" sz="2400" spc="1" strike="noStrike">
                <a:ln w="9360">
                  <a:solidFill>
                    <a:srgbClr val="f1f7e9"/>
                  </a:solidFill>
                  <a:miter/>
                </a:ln>
                <a:gradFill rotWithShape="0">
                  <a:gsLst>
                    <a:gs pos="0">
                      <a:srgbClr val="366b1b"/>
                    </a:gs>
                    <a:gs pos="100000">
                      <a:srgbClr val="8bae6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6320" y="4947120"/>
            <a:ext cx="4267080" cy="1477080"/>
          </a:xfrm>
          <a:prstGeom prst="rect">
            <a:avLst/>
          </a:prstGeom>
          <a:solidFill>
            <a:srgbClr val="366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GREATEST </a:t>
            </a:r>
            <a:endParaRPr b="0" lang="en-US" sz="3600" spc="-1" strike="noStrike">
              <a:solidFill>
                <a:srgbClr val="0033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AD ON EARTH</a:t>
            </a:r>
            <a:endParaRPr b="0" lang="en-US" sz="36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79024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6b1b"/>
                </a:solidFill>
                <a:latin typeface="Comic Sans MS"/>
              </a:rPr>
              <a:t>But where is frog?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114800" y="2133720"/>
            <a:ext cx="4903560" cy="3504960"/>
            <a:chOff x="4114800" y="2133720"/>
            <a:chExt cx="4903560" cy="3504960"/>
          </a:xfrm>
        </p:grpSpPr>
        <p:sp>
          <p:nvSpPr>
            <p:cNvPr id="255" name=""/>
            <p:cNvSpPr txBox="1"/>
            <p:nvPr/>
          </p:nvSpPr>
          <p:spPr>
            <a:xfrm>
              <a:off x="5790960" y="2514600"/>
              <a:ext cx="3227400" cy="3124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6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1f7e9"/>
                    </a:solidFill>
                    <a:miter/>
                  </a:ln>
                  <a:gradFill rotWithShape="0">
                    <a:gsLst>
                      <a:gs pos="0">
                        <a:srgbClr val="366b1b"/>
                      </a:gs>
                      <a:gs pos="100000">
                        <a:srgbClr val="8bae6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PRESENTING</a:t>
              </a:r>
              <a:endParaRPr b="0" lang="en-US" sz="2400" spc="1" strike="noStrike">
                <a:ln w="9360">
                  <a:solidFill>
                    <a:srgbClr val="f1f7e9"/>
                  </a:solidFill>
                  <a:miter/>
                </a:ln>
                <a:gradFill rotWithShape="0">
                  <a:gsLst>
                    <a:gs pos="0">
                      <a:srgbClr val="366b1b"/>
                    </a:gs>
                    <a:gs pos="100000">
                      <a:srgbClr val="8bae6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4114800" y="2133720"/>
              <a:ext cx="3227400" cy="3124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6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1f7e9"/>
                    </a:solidFill>
                    <a:miter/>
                  </a:ln>
                  <a:gradFill rotWithShape="0">
                    <a:gsLst>
                      <a:gs pos="0">
                        <a:srgbClr val="366b1b"/>
                      </a:gs>
                      <a:gs pos="100000">
                        <a:srgbClr val="8bae6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PRESENTING</a:t>
              </a:r>
              <a:endParaRPr b="0" lang="en-US" sz="2400" spc="1" strike="noStrike">
                <a:ln w="9360">
                  <a:solidFill>
                    <a:srgbClr val="f1f7e9"/>
                  </a:solidFill>
                  <a:miter/>
                </a:ln>
                <a:gradFill rotWithShape="0">
                  <a:gsLst>
                    <a:gs pos="0">
                      <a:srgbClr val="366b1b"/>
                    </a:gs>
                    <a:gs pos="100000">
                      <a:srgbClr val="8bae6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1f7e9"/>
                </a:solidFill>
                <a:latin typeface="Times New Roman"/>
              </a:rPr>
              <a:t>Friends Forever</a:t>
            </a:r>
            <a:endParaRPr b="0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438640"/>
            <a:ext cx="840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"/>
              </a:rPr>
              <a:t>Frog and toad are always together. Here are five wonderful stories about flowers, cookies, bravery, dreams, and, most of all, friendship.</a:t>
            </a:r>
            <a:endParaRPr b="0" lang="en-US" sz="36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070080" y="5769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60" name="">
            <a:hlinkClick r:id="rId1"/>
          </p:cNvPr>
          <p:cNvSpPr/>
          <p:nvPr/>
        </p:nvSpPr>
        <p:spPr>
          <a:xfrm>
            <a:off x="3886200" y="5105520"/>
            <a:ext cx="1066680" cy="609480"/>
          </a:xfrm>
          <a:custGeom>
            <a:avLst/>
            <a:gdLst>
              <a:gd name="textAreaLeft" fmla="*/ 152280 w 1066680"/>
              <a:gd name="textAreaRight" fmla="*/ 914400 w 10666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2394" y="5400"/>
                </a:lnTo>
                <a:lnTo>
                  <a:pt x="5400" y="5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2394" y="16200"/>
                </a:lnTo>
                <a:lnTo>
                  <a:pt x="32394" y="5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2394" y="16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7794" h="21600">
                <a:moveTo>
                  <a:pt x="14872" y="9425"/>
                </a:moveTo>
                <a:lnTo>
                  <a:pt x="17417" y="9425"/>
                </a:lnTo>
                <a:lnTo>
                  <a:pt x="19957" y="6775"/>
                </a:lnTo>
                <a:lnTo>
                  <a:pt x="19957" y="14825"/>
                </a:lnTo>
                <a:lnTo>
                  <a:pt x="17417" y="12175"/>
                </a:lnTo>
                <a:lnTo>
                  <a:pt x="14872" y="12175"/>
                </a:lnTo>
                <a:close/>
              </a:path>
              <a:path fill="darken" w="37794" h="21600">
                <a:moveTo>
                  <a:pt x="20907" y="10800"/>
                </a:moveTo>
                <a:lnTo>
                  <a:pt x="22922" y="10800"/>
                </a:lnTo>
              </a:path>
              <a:path fill="darken" w="37794" h="21600">
                <a:moveTo>
                  <a:pt x="20907" y="9425"/>
                </a:moveTo>
                <a:lnTo>
                  <a:pt x="22922" y="7835"/>
                </a:lnTo>
              </a:path>
              <a:path fill="darken" w="37794" h="21600">
                <a:moveTo>
                  <a:pt x="20907" y="12175"/>
                </a:moveTo>
                <a:lnTo>
                  <a:pt x="22922" y="13765"/>
                </a:lnTo>
              </a:path>
            </a:pathLst>
          </a:cu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968920" y="5866560"/>
            <a:ext cx="30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Froggy Song</a:t>
            </a:r>
            <a:endParaRPr b="0" lang="en-US" sz="32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1f7e9"/>
                </a:solidFill>
                <a:latin typeface="Times New Roman"/>
              </a:rPr>
              <a:t>Other Books</a:t>
            </a:r>
            <a:endParaRPr b="0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" name="All%20YearBC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1387440" cy="2152800"/>
          </a:xfrm>
          <a:prstGeom prst="rect">
            <a:avLst/>
          </a:prstGeom>
          <a:ln w="0">
            <a:noFill/>
          </a:ln>
        </p:spPr>
      </p:pic>
      <p:pic>
        <p:nvPicPr>
          <p:cNvPr id="264" name="Days%20BC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1436760" cy="2228760"/>
          </a:xfrm>
          <a:prstGeom prst="rect">
            <a:avLst/>
          </a:prstGeom>
          <a:ln w="0">
            <a:noFill/>
          </a:ln>
        </p:spPr>
      </p:pic>
      <p:pic>
        <p:nvPicPr>
          <p:cNvPr id="265" name="FriendBC" descr=""/>
          <p:cNvPicPr/>
          <p:nvPr/>
        </p:nvPicPr>
        <p:blipFill>
          <a:blip r:embed="rId3"/>
          <a:stretch/>
        </p:blipFill>
        <p:spPr>
          <a:xfrm>
            <a:off x="5715000" y="2895480"/>
            <a:ext cx="1479600" cy="2133720"/>
          </a:xfrm>
          <a:prstGeom prst="rect">
            <a:avLst/>
          </a:prstGeom>
          <a:ln w="0">
            <a:noFill/>
          </a:ln>
        </p:spPr>
      </p:pic>
      <p:pic>
        <p:nvPicPr>
          <p:cNvPr id="266" name="froggie" descr=""/>
          <p:cNvPicPr/>
          <p:nvPr/>
        </p:nvPicPr>
        <p:blipFill>
          <a:blip r:embed="rId4"/>
          <a:stretch/>
        </p:blipFill>
        <p:spPr>
          <a:xfrm>
            <a:off x="304920" y="4967280"/>
            <a:ext cx="8839080" cy="595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087640" y="5546160"/>
            <a:ext cx="46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by Arnold Lobel</a:t>
            </a:r>
            <a:endParaRPr b="0" lang="en-US" sz="40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01:00:54Z</dcterms:created>
  <dc:creator>PES</dc:creator>
  <dc:description/>
  <dc:language>en-US</dc:language>
  <cp:lastModifiedBy>Jefferson County Schools</cp:lastModifiedBy>
  <dcterms:modified xsi:type="dcterms:W3CDTF">1999-03-03T00:09:00Z</dcterms:modified>
  <cp:revision>42</cp:revision>
  <dc:subject/>
  <dc:title>Frog and Toad Together by Arnold Lobel</dc:title>
</cp:coreProperties>
</file>